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7A3-9F40-485A-9942-8C2EF11E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B23-DDD0-4BD4-9C17-3B210397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BA8-F7B1-4775-A7AC-D17E3F2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C0A-E2E0-4BA2-B6AA-B9A4B086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3F3-2283-42CB-9A74-607982C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8BC-B08A-468D-92D0-DF0D2A9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440-55DB-464F-942D-CE8F978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923-00F0-46D9-8B2B-9A60DDA9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BA2-3DE1-4497-A35C-270F246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2B5-C7AB-4144-97E1-A66F5FE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E8B-AAEB-4704-8E9B-97405252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BD6-2883-47A9-B4E5-621670A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2CDB-52FC-434B-A257-1208474CE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bing Molecu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952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e and formula of a molecular compound describe the type and number of atoms in a molecule of the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etallic elements appears first in the name.  (Farther to the left in the P.T of Ele. and if in same group, the one closer to bottom is listed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second element is changed to end in suffix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es for Naming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914400"/>
          <a:ext cx="5943240" cy="5562360"/>
        </p:xfrm>
        <a:graphic>
          <a:graphicData uri="http://schemas.openxmlformats.org/drawingml/2006/table">
            <a:tbl>
              <a:tblPr/>
              <a:tblGrid>
                <a:gridCol w="2971440"/>
                <a:gridCol w="2971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-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tr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most of the time mono-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430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itrogens and 4 oxygen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t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514600"/>
            <a:ext cx="815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ing molecular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rite the symbols for the elements in order they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prefixes (if any) to determine the number of atoms of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diphosphorous tetra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724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=  two phosphorous and tetra = 4 flu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510552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2:23:46Z</dcterms:created>
  <dc:creator>jpak</dc:creator>
  <dc:description/>
  <dc:language>en-US</dc:language>
  <cp:lastModifiedBy>Farwell Area Schools</cp:lastModifiedBy>
  <dcterms:modified xsi:type="dcterms:W3CDTF">2009-02-17T18:13:09Z</dcterms:modified>
  <cp:revision>7</cp:revision>
  <dc:subject/>
  <dc:title>Describing Molecular Compounds</dc:title>
</cp:coreProperties>
</file>